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514CB-C83C-431E-B39D-664B3CD9E54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scelta imprenditoriale può avere conseguenze molto pesanti sulla propria vita personale. Il tempo libero verrà drasticamente ridotto e occorrerà abituarsi a non avere orari. I ritmi di lavoro cambiano, così come cambia la responsabilità e l’assiduità dell’impegno.Occorre inoltre avere le necessarie competenze tecnich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 non si hanno le esperienz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ttuare stage presso azie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are corsi di formazione profess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rsi con persone esperte del ra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o strumento ti permetterà non solo di quantificare le tue probabilità di successo, ma anche di cominciare a riflettere su quali e quante siano le decisioni da prendere per avviare la tua impresa: dove localizzarla, con quanto personale, con quali prodo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 elementi raccolti ti saranno utili per predisporre la redazione del piano d'impresa.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indispensabil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entarsi al mercato. Comprendere cioè  le esigenze del consumatore e fare il possibile per soddisfar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re il tipo di clientela a cui ci vogliamo rivolgere, perché in ragione di ciò può cambiare il nostro modo di presentarci e il tipo di servizio che deve essere reso,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izzare il mercato potenziale: è sufficientemente grande? È in espansione? Ci sono molti concorrent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ED0C5-F73E-4ABF-B087-876103DBB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A7201-B6FD-45AE-AC7A-20A053DF2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08F2A-C7C1-46C7-B7A9-8B3CC6785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E0594-B7DE-4DDE-879E-702D86ECD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EBCED-CF27-40EA-825D-9BF6EC636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55A5D-066C-4C17-A001-9294F0238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0A37E-4592-42BB-BAEA-305CD2842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0A84F-AE4F-48BE-96CF-882122696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79E9D-054D-453F-9996-9290741A2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2FBA7-005B-481C-85A1-0ACBF4421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98121-22A0-447A-A4B4-8C767BBE9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DF48A-282F-445B-9B01-005BB59A2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7C694-7524-41C5-9ADD-8B148FC37E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genesi.camcom.it/" TargetMode="External"/><Relationship Id="rId2" Type="http://schemas.openxmlformats.org/officeDocument/2006/relationships/hyperlink" Target="http://www.genesi.camcom.it/" TargetMode="External"/><Relationship Id="rId3" Type="http://schemas.openxmlformats.org/officeDocument/2006/relationships/hyperlink" Target="http://www.genesi.camcom.it/" TargetMode="External"/><Relationship Id="rId4" Type="http://schemas.openxmlformats.org/officeDocument/2006/relationships/hyperlink" Target="http://www.genesi.camcom.it/" TargetMode="Externa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rer.camcom.it/guidafin" TargetMode="External"/><Relationship Id="rId2" Type="http://schemas.openxmlformats.org/officeDocument/2006/relationships/hyperlink" Target="http://www.rer.camcom.it/guidafin" TargetMode="External"/><Relationship Id="rId3" Type="http://schemas.openxmlformats.org/officeDocument/2006/relationships/hyperlink" Target="http://www.rer.camcom.it/guidafin" TargetMode="External"/><Relationship Id="rId4" Type="http://schemas.openxmlformats.org/officeDocument/2006/relationships/hyperlink" Target="http://www.rer.camcom.it/guidafin" TargetMode="External"/><Relationship Id="rId5" Type="http://schemas.openxmlformats.org/officeDocument/2006/relationships/hyperlink" Target="http://www.rer.camcom.it/guidafin" TargetMode="External"/><Relationship Id="rId6" Type="http://schemas.openxmlformats.org/officeDocument/2006/relationships/hyperlink" Target="http://www.rer.camcom.it/guidafin" TargetMode="External"/><Relationship Id="rId7" Type="http://schemas.openxmlformats.org/officeDocument/2006/relationships/hyperlink" Target="http://www.rer.camcom.it/guidafin" TargetMode="External"/><Relationship Id="rId8" Type="http://schemas.openxmlformats.org/officeDocument/2006/relationships/hyperlink" Target="http://www.rer.camcom.it/guidafin" TargetMode="External"/><Relationship Id="rId9"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Fare impresa: una scelta possibl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ura d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9984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Comic Sans MS"/>
              </a:rPr>
              <a:t>GENESI</a:t>
            </a:r>
            <a:endParaRPr b="0" lang="en-US" sz="4400" spc="-1" strike="noStrike">
              <a:solidFill>
                <a:srgbClr val="000000"/>
              </a:solidFill>
              <a:latin typeface="Times New Roman"/>
            </a:endParaRPr>
          </a:p>
        </p:txBody>
      </p:sp>
      <p:pic>
        <p:nvPicPr>
          <p:cNvPr id="71" name="" descr=""/>
          <p:cNvPicPr/>
          <p:nvPr/>
        </p:nvPicPr>
        <p:blipFill>
          <a:blip r:embed="rId1"/>
          <a:stretch/>
        </p:blipFill>
        <p:spPr>
          <a:xfrm>
            <a:off x="2554200" y="2000160"/>
            <a:ext cx="3867120" cy="1671840"/>
          </a:xfrm>
          <a:prstGeom prst="rect">
            <a:avLst/>
          </a:prstGeom>
          <a:ln w="0">
            <a:noFill/>
          </a:ln>
        </p:spPr>
      </p:pic>
      <p:sp>
        <p:nvSpPr>
          <p:cNvPr id="72" name=""/>
          <p:cNvSpPr/>
          <p:nvPr/>
        </p:nvSpPr>
        <p:spPr>
          <a:xfrm>
            <a:off x="1166760" y="3664080"/>
            <a:ext cx="76899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Rete degli Sportelli che le Camere di Commercio dell’Emilia Romagna hanno creato per dare un primo supporto a coloro che intendono avviare un attività autonoma (www.genesi.camcom.it)</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Comic Sans MS"/>
              </a:rPr>
              <a:t>IL PERCORSO A TAPPE PER LA CREAZIONE D’IMPRESA</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creare un’impresa occorre:</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Times New Roman"/>
            </a:endParaRPr>
          </a:p>
          <a:p>
            <a:pPr marL="332640" indent="-332640"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di analisi</a:t>
            </a:r>
            <a:endParaRPr b="0" lang="en-US" sz="2400" spc="-1" strike="noStrike">
              <a:solidFill>
                <a:srgbClr val="000000"/>
              </a:solidFill>
              <a:latin typeface="Times New Roman"/>
            </a:endParaRPr>
          </a:p>
          <a:p>
            <a:pPr marL="332640" indent="-332640"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di proporre soluzioni</a:t>
            </a:r>
            <a:endParaRPr b="0" lang="en-US" sz="2400" spc="-1" strike="noStrike">
              <a:solidFill>
                <a:srgbClr val="000000"/>
              </a:solidFill>
              <a:latin typeface="Times New Roman"/>
            </a:endParaRPr>
          </a:p>
          <a:p>
            <a:pPr marL="332640" indent="-332640"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sere creativi</a:t>
            </a:r>
            <a:endParaRPr b="0" lang="en-US" sz="2400" spc="-1" strike="noStrike">
              <a:solidFill>
                <a:srgbClr val="000000"/>
              </a:solidFill>
              <a:latin typeface="Times New Roman"/>
            </a:endParaRPr>
          </a:p>
          <a:p>
            <a:pPr marL="33264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tanta pazienza…</a:t>
            </a: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ercorso è lungo e irto di ostacoli!!</a:t>
            </a: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ndiamo a vedere.. (</a:t>
            </a:r>
            <a:r>
              <a:rPr b="0" lang="it-IT" sz="2400" spc="-1" strike="noStrike" u="sng">
                <a:solidFill>
                  <a:srgbClr val="ccccff"/>
                </a:solidFill>
                <a:uFillTx/>
                <a:latin typeface="Comic Sans MS"/>
                <a:hlinkClick r:id="rId1"/>
              </a:rPr>
              <a:t>www.genesi.</a:t>
            </a:r>
            <a:r>
              <a:rPr b="0" lang="it-IT" sz="2400" spc="-1" strike="noStrike" u="sng">
                <a:solidFill>
                  <a:srgbClr val="ccccff"/>
                </a:solidFill>
                <a:uFillTx/>
                <a:latin typeface="Comic Sans MS"/>
                <a:hlinkClick r:id="rId2"/>
              </a:rPr>
              <a:t>camcom</a:t>
            </a:r>
            <a:r>
              <a:rPr b="0" lang="it-IT" sz="2400" spc="-1" strike="noStrike" u="sng">
                <a:solidFill>
                  <a:srgbClr val="ccccff"/>
                </a:solidFill>
                <a:uFillTx/>
                <a:latin typeface="Comic Sans MS"/>
                <a:hlinkClick r:id="rId3"/>
              </a:rPr>
              <a:t>.</a:t>
            </a:r>
            <a:r>
              <a:rPr b="0" lang="it-IT" sz="2400" spc="-1" strike="noStrike" u="sng">
                <a:solidFill>
                  <a:srgbClr val="ccccff"/>
                </a:solidFill>
                <a:uFillTx/>
                <a:latin typeface="Comic Sans MS"/>
                <a:hlinkClick r:id="rId4"/>
              </a:rPr>
              <a:t>it</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Comic Sans MS"/>
              </a:rPr>
              <a:t>LE TAPPE PER CREARE UN’IMPRESA</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CONOSCI TE STESS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MPARA DAGLI ALTRI</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LIMITA I RISCHI</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ON IMPROVVISAR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AI PARLARE I NUMERI</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OSCI TE STESS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MPRENDITORI SI PUO’ DIVENTARE, MA CREATIVITA’, PROPENSIONE AL RISCHIO E CAPACITA’ DI  STABILIRE BUONE RELAZIONI AIUTAN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L TEST DI AUTOVALUTAZIONE  PSICOLOGICA:  DELPH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ARA DAGLI ALTRI</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er fare l’imprenditore occorre un minimo d’esperienza.</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 INDAGINI DI COPERNICO:</a:t>
            </a:r>
            <a:endParaRPr b="0" lang="en-US" sz="28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Oltre che a se stessi, è bene guardare anche a cosa fanno gli altri. Il confronto con le esperienze altrui è fondamentale per valutare compiutamente la propria idea progettuale..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pernico, è un'indagine che esamina le nuove imprese da 0 a 5 anni di età, relativamente a numerosi aspetti (della composizione del nucleo imprenditoriale, alla struttura aziendale, alla fase d'avvio, etc.).</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cune risultanze di COPERNICO</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tori di attività: K73 Ricerca e sviluppo, K74 Altre attività professionali e imprenditorial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42 % delle aziende ha una sola persona; meno di 1 su 8 ne ha oltre 3</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lcune risultanze di Copernico</a:t>
            </a:r>
            <a:br>
              <a:rPr sz="3200"/>
            </a:br>
            <a:r>
              <a:rPr b="0" lang="it-IT" sz="2400" spc="-1" strike="noStrike">
                <a:solidFill>
                  <a:srgbClr val="000000"/>
                </a:solidFill>
                <a:latin typeface="Times New Roman"/>
              </a:rPr>
              <a:t>Diminuisce il ricorso al credito bancario</a:t>
            </a:r>
            <a:endParaRPr b="0" lang="en-US" sz="2400" spc="-1" strike="noStrike">
              <a:solidFill>
                <a:srgbClr val="000000"/>
              </a:solidFill>
              <a:latin typeface="Times New Roman"/>
            </a:endParaRPr>
          </a:p>
        </p:txBody>
      </p:sp>
      <p:graphicFrame>
        <p:nvGraphicFramePr>
          <p:cNvPr id="84" name=""/>
          <p:cNvGraphicFramePr/>
          <p:nvPr/>
        </p:nvGraphicFramePr>
        <p:xfrm>
          <a:off x="685800" y="1676520"/>
          <a:ext cx="7772400" cy="2155680"/>
        </p:xfrm>
        <a:graphic>
          <a:graphicData uri="http://schemas.openxmlformats.org/presentationml/2006/ole">
            <p:oleObj progId="Excel.Sheet.12" r:id="rId1" spid="">
              <p:embed/>
              <p:pic>
                <p:nvPicPr>
                  <p:cNvPr id="85" name="" descr=""/>
                  <p:cNvPicPr/>
                  <p:nvPr/>
                </p:nvPicPr>
                <p:blipFill>
                  <a:blip r:embed="rId2"/>
                  <a:stretch/>
                </p:blipFill>
                <p:spPr>
                  <a:xfrm>
                    <a:off x="685800" y="1676520"/>
                    <a:ext cx="7772400" cy="2155680"/>
                  </a:xfrm>
                  <a:prstGeom prst="rect">
                    <a:avLst/>
                  </a:prstGeom>
                  <a:ln w="0">
                    <a:noFill/>
                  </a:ln>
                </p:spPr>
              </p:pic>
            </p:oleObj>
          </a:graphicData>
        </a:graphic>
      </p:graphicFrame>
      <p:graphicFrame>
        <p:nvGraphicFramePr>
          <p:cNvPr id="86" name=""/>
          <p:cNvGraphicFramePr/>
          <p:nvPr/>
        </p:nvGraphicFramePr>
        <p:xfrm>
          <a:off x="685800" y="4038480"/>
          <a:ext cx="7772400" cy="2190960"/>
        </p:xfrm>
        <a:graphic>
          <a:graphicData uri="http://schemas.openxmlformats.org/drawingml/2006/table">
            <a:tbl>
              <a:tblPr/>
              <a:tblGrid>
                <a:gridCol w="3776760"/>
                <a:gridCol w="1081080"/>
                <a:gridCol w="863640"/>
                <a:gridCol w="969840"/>
                <a:gridCol w="10810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Arial"/>
                        </a:rPr>
                        <a:t>Fonte di reperimento capitali</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3-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g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ota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Capitale proprio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79.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81.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Times New Roman"/>
                          <a:ea typeface="Arial"/>
                        </a:rPr>
                        <a:t>69.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75.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Capitale di familiari/amici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3.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3.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Credito bancario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Times New Roman"/>
                          <a:ea typeface="Arial"/>
                        </a:rPr>
                        <a:t>14.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Times New Roman"/>
                          <a:ea typeface="Arial"/>
                        </a:rPr>
                        <a:t>15.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2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Prestiti di società finanziari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Total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e risultanze di Copernico: indagini di mercato e piano d’impresa</a:t>
            </a:r>
            <a:endParaRPr b="0" lang="en-US" sz="3200" spc="-1" strike="noStrike">
              <a:solidFill>
                <a:srgbClr val="000000"/>
              </a:solidFill>
              <a:latin typeface="Times New Roman"/>
            </a:endParaRPr>
          </a:p>
        </p:txBody>
      </p:sp>
      <p:graphicFrame>
        <p:nvGraphicFramePr>
          <p:cNvPr id="88" name=""/>
          <p:cNvGraphicFramePr/>
          <p:nvPr/>
        </p:nvGraphicFramePr>
        <p:xfrm>
          <a:off x="762120" y="1828800"/>
          <a:ext cx="8001000" cy="1430280"/>
        </p:xfrm>
        <a:graphic>
          <a:graphicData uri="http://schemas.openxmlformats.org/presentationml/2006/ole">
            <p:oleObj progId="Excel.Sheet.12" r:id="rId1" spid="">
              <p:embed/>
              <p:pic>
                <p:nvPicPr>
                  <p:cNvPr id="89" name="" descr=""/>
                  <p:cNvPicPr/>
                  <p:nvPr/>
                </p:nvPicPr>
                <p:blipFill>
                  <a:blip r:embed="rId2"/>
                  <a:stretch/>
                </p:blipFill>
                <p:spPr>
                  <a:xfrm>
                    <a:off x="762120" y="1828800"/>
                    <a:ext cx="8001000" cy="1430280"/>
                  </a:xfrm>
                  <a:prstGeom prst="rect">
                    <a:avLst/>
                  </a:prstGeom>
                  <a:ln w="0">
                    <a:noFill/>
                  </a:ln>
                </p:spPr>
              </p:pic>
            </p:oleObj>
          </a:graphicData>
        </a:graphic>
      </p:graphicFrame>
      <p:graphicFrame>
        <p:nvGraphicFramePr>
          <p:cNvPr id="90" name=""/>
          <p:cNvGraphicFramePr/>
          <p:nvPr/>
        </p:nvGraphicFramePr>
        <p:xfrm>
          <a:off x="762120" y="3505320"/>
          <a:ext cx="8035920" cy="1525320"/>
        </p:xfrm>
        <a:graphic>
          <a:graphicData uri="http://schemas.openxmlformats.org/presentationml/2006/ole">
            <p:oleObj progId="Excel.Sheet.12" r:id="rId3" spid="">
              <p:embed/>
              <p:pic>
                <p:nvPicPr>
                  <p:cNvPr id="91" name="" descr=""/>
                  <p:cNvPicPr/>
                  <p:nvPr/>
                </p:nvPicPr>
                <p:blipFill>
                  <a:blip r:embed="rId4"/>
                  <a:stretch/>
                </p:blipFill>
                <p:spPr>
                  <a:xfrm>
                    <a:off x="762120" y="3505320"/>
                    <a:ext cx="8035920" cy="152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A I RISCHI</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 c'è impresa senza rischio: il pericolo che qualcosa vada storto è connesso all'idea stessa di mettersi in proprio. Il rischio non è eliminabile, tuttavia molto dipende dalle scelte compiute al momento di definire il progetto d'impres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nto rischio contenga il tuo progetto d'impresa lo puoi misurare con Ulisse, un software per la valutazione del rischio d'impresa, che troverai presso lo sportello GENESI della tua Camera di Commerci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 IMPROVVISARE</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 BUONA IDEA NON BASTA E’ NECESSARIO SAPERE :</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CHI VENDERE</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SA VENDERE</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PRODURRE</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ic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tteremo d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scelta imprenditoria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fasi della sua realizzazion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Rete genesi delle camere di commercio: un aiuto concreto</a:t>
            </a:r>
            <a:endParaRPr b="0" lang="en-US" sz="3200" spc="-1" strike="noStrike">
              <a:solidFill>
                <a:srgbClr val="000000"/>
              </a:solidFill>
              <a:latin typeface="Times New Roman"/>
            </a:endParaRPr>
          </a:p>
        </p:txBody>
      </p:sp>
      <p:pic>
        <p:nvPicPr>
          <p:cNvPr id="52" name="PE01846_" descr=""/>
          <p:cNvPicPr/>
          <p:nvPr/>
        </p:nvPicPr>
        <p:blipFill>
          <a:blip r:embed="rId1"/>
          <a:stretch/>
        </p:blipFill>
        <p:spPr>
          <a:xfrm>
            <a:off x="2286000" y="4648320"/>
            <a:ext cx="4583160" cy="2012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 IMPROVVISAR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marketing serve a defini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prodotto “gius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prezzo “gius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mite la distribuzione “gius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 la comunicazione “gius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cliente “gius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 IMPROVVISARE</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RGANIZZAZIONE DELL’AZIENDA</a:t>
            </a: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zienda è composta da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orse materiali (locali, mobili, macchinari, attrezzature, materie prim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orse umane (personal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orse finanziari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orse tecnologiche e conoscenza</a:t>
            </a: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DEVE DECIDERE:</a:t>
            </a: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 costituire ex novo la struttura o acquisirne una già esistent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e dimensione dargl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ve localizzarla</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 veste giuridica assumer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e organizzare i fattori produttiv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 SOLI O IN SOCIETA’</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 delle prime riflessioni da fare quando giunge il momento di concretizzare l’avvio dell’attività è quella sulla forma giuridica</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 può decidere si svolgere l’attività di impresa come unico titolare oppure di svolgerla insieme ad altri soci allo scopo di dividerne gli utili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RATTERISTICHE DELL’IMPRESA INDIVIDUALE</a:t>
            </a:r>
            <a:endParaRPr b="0" lang="en-US" sz="40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e più semplici nella fase di costituzione e cessazion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co titolare responsabile pertanto maggiore flessibilità e rapidità di decision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ori costi ed oneri di tipo amministrativo e contabi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abilità personale e illimita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ilità di comprendere i familiari nell’impresa, come collaboratori (impresa familiar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RATTERISTICHE DELLA SOCIETÀ</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configura quando due o più persone si accordano per svolgere insieme un’attività economica allo scopo di dividerne gli utili</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ddivisione dei rischi e delle responsabilità</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ilità di contare sull’apporto finanziario, produttivo   e organizzativo di più persone</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ilità di separare il proprio patrimonio personale da quello societario</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zione del carico fiscale fra diversi soggetti</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ggiori oneri amministrativi e contabili</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ore flessibilità e rapidità decisionale</a:t>
            </a:r>
            <a:endParaRPr b="0" lang="en-US" sz="2800" spc="-1" strike="noStrike">
              <a:solidFill>
                <a:srgbClr val="000000"/>
              </a:solidFill>
              <a:latin typeface="Times New Roman"/>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POLOGIE DI SOCIETÀ</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età di persone: s.n.c – s.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età di capitali: s.r.l – s.p.a – s.a.p.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età cooperativ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OCIETÀ DI PERSONE</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 ha personalità giuridica, quindi i soci sono responsabili illimitatamente (rispondono dei debiti sociali anche con il loro patrimonio personale) e solidalmente (rispondono anche della parte di debito non pagata dagli altri soci)</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questo, le qualità dei singoli soci (onestà, affidabilità, competenza, ecc..) sono molto importanti!</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mministrazione può spettare solo ai soci </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B. la società in accomandita semplice permette di distinguere tra soci responsabili a cui spetta l’amministrazione, accomandatari, e soci non responsabili, accomandanti, che non partecipano all’amministrazione</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OCIETÀ DI CAPITALI</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 personalità giuridica distinta da quella dei soci che la compongono, pertanto i soci rispondono limitatamente alle quote investite nell’impresa;</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previsto l’apporto di un capitale minimo (100.000 euro per s.p.a., 10.000 euro per s.r.l.)</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rapporti tra i soci e e con i terzi sono maggiormente formalizzati, pertanto offre più garanzie a fronte di un capitale sociale consistente;</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È la forma sociale tipica delle imprese medio-grandi;</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B. nella s.r.l. si ha il vantaggio della responsabilità limitata, mantenendo comunque l’importanza dell’elemento personale. Si adatta quindi a quella fascia di imprese con dimensioni medie, superiori alle s.n.c e inferiori alla</a:t>
            </a:r>
            <a:r>
              <a:rPr b="0" lang="en-US" sz="2800" spc="-1" strike="noStrike">
                <a:solidFill>
                  <a:srgbClr val="000000"/>
                </a:solidFill>
                <a:latin typeface="Times New Roman"/>
              </a:rPr>
              <a:t> </a:t>
            </a:r>
            <a:r>
              <a:rPr b="0" lang="en-US" sz="2000" spc="-1" strike="noStrike">
                <a:solidFill>
                  <a:srgbClr val="000000"/>
                </a:solidFill>
                <a:latin typeface="Times New Roman"/>
              </a:rPr>
              <a:t>s.p.a.</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OCIETÀ COOPERATIVA</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 può definire come un insieme di persone che svolgono un’attività economica a favore dei soci stessi, per ottenere beni, servizi o retribuzioni a condizioni più vantaggiose rispetto a quelle di mercato</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egue uno scopo mutualistico, al quale si può aggiungere, solo SECONDARIAMENTE, lo scopo di lucro</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eno 9 soci (almeno 3 per la piccola cooperativa)</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godere delle agevolazioni accordate dalla legge (es.  redditi non tassati) devono essere rispettate determinate condizioni (es. utili distribuiti entro certi limiti)</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cuni criteri per scegliere</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o dei promotor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 e dimensione dell’impres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onibilità di capital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 di fiducia nei potenziali soc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 di responsabilità che i soci vogliono assume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rimonio personale dei soc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à di partecipare direttamente all’attività</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à di ricorrere a particolari forme di finanziament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po la scuola</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TTE2936F2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Proseguiamo gli studi</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TE2936F2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Lavoro dipendente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TE2936F2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Lavoro atipico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TE292E2E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2E2E8t00"/>
              </a:rPr>
              <a:t>Lavoro autonomo </a:t>
            </a:r>
            <a:r>
              <a:rPr b="0" lang="it-IT" sz="3200" spc="-1" strike="noStrike">
                <a:solidFill>
                  <a:srgbClr val="000000"/>
                </a:solidFill>
                <a:latin typeface="TTE2936F28t00"/>
              </a:rPr>
              <a:t>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TE2936F2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L’impresa </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 </a:t>
            </a:r>
            <a:endParaRPr b="0" lang="en-US" sz="32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BD05515_" descr=""/>
          <p:cNvPicPr/>
          <p:nvPr/>
        </p:nvPicPr>
        <p:blipFill>
          <a:blip r:embed="rId1"/>
          <a:stretch/>
        </p:blipFill>
        <p:spPr>
          <a:xfrm>
            <a:off x="5486400" y="2971800"/>
            <a:ext cx="3181320" cy="341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L LABIRINTO DELLA BUROCRAZIA</a:t>
            </a:r>
            <a:endParaRPr b="0" lang="en-US" sz="28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l labirinto della burocrazia</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importante avere per tempo le informazioni giuste sulle varie licenze ed autorizzazioni necessarie per avviare l'attività, e sugli enti preposti al rilascio di questi atti (Camere di Commercio, ASL, Vigili del fuoco…).</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diversi vincoli e adempimenti di ordine burocratico indispensabili per costituire un'impresa hanno infatti un rilievo economico, non solo come tasse, diritti da pagare , etc., ma anche perché possono ritardare eccessivamente l'avvio della tua iniziativa, non rendendola più tempestiva rispetto alle esigenze del mercato: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o d'Arianna: banca dati on line sulle autorizzazioni necessarie per avviare oltre 3000 tipi di attività.</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banca dati è consultabile presso lo sportello Genesi della tua Camera di Commerci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mic Sans MS"/>
              </a:rPr>
              <a:t>PERCORSO ADEMPIMENTI PER AVVIO IMPRESA INDIVIDUALE</a:t>
            </a:r>
            <a:endParaRPr b="0" lang="en-US" sz="2800" spc="-1" strike="noStrike">
              <a:solidFill>
                <a:srgbClr val="000000"/>
              </a:solidFill>
              <a:latin typeface="Times New Roman"/>
            </a:endParaRPr>
          </a:p>
        </p:txBody>
      </p:sp>
      <p:sp>
        <p:nvSpPr>
          <p:cNvPr id="119" name="PlaceHolder 2"/>
          <p:cNvSpPr>
            <a:spLocks noGrp="1"/>
          </p:cNvSpPr>
          <p:nvPr>
            <p:ph/>
          </p:nvPr>
        </p:nvSpPr>
        <p:spPr>
          <a:xfrm>
            <a:off x="151920" y="1294920"/>
            <a:ext cx="2590920" cy="2210040"/>
          </a:xfrm>
          <a:prstGeom prst="rect">
            <a:avLst/>
          </a:prstGeom>
          <a:noFill/>
          <a:ln w="0">
            <a:noFill/>
          </a:ln>
        </p:spPr>
        <p:txBody>
          <a:bodyPr lIns="90000" rIns="90000" tIns="46800" bIns="46800" anchor="t">
            <a:normAutofit fontScale="89000"/>
          </a:bodyPr>
          <a:p>
            <a:pPr marL="305280" indent="-3052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 ufficio IVA</a:t>
            </a:r>
            <a:endParaRPr b="0" lang="en-US" sz="1800" spc="-1" strike="noStrike">
              <a:solidFill>
                <a:srgbClr val="000000"/>
              </a:solidFill>
              <a:latin typeface="Times New Roman"/>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manda Partita IVA</a:t>
            </a:r>
            <a:endParaRPr b="0" lang="en-US" sz="1800" spc="-1" strike="noStrike">
              <a:solidFill>
                <a:srgbClr val="000000"/>
              </a:solidFill>
              <a:latin typeface="Times New Roman"/>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PlaceHolder 3"/>
          <p:cNvSpPr>
            <a:spLocks noGrp="1"/>
          </p:cNvSpPr>
          <p:nvPr>
            <p:ph/>
          </p:nvPr>
        </p:nvSpPr>
        <p:spPr>
          <a:xfrm>
            <a:off x="2895480" y="2666880"/>
            <a:ext cx="3657600" cy="28958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Camera di Commercio</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crizione al </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gistro Imprese</a:t>
            </a:r>
            <a:endParaRPr b="0" lang="en-US" sz="1800" spc="-1" strike="noStrike">
              <a:solidFill>
                <a:srgbClr val="000000"/>
              </a:solidFill>
              <a:latin typeface="Times New Roman"/>
            </a:endParaRPr>
          </a:p>
        </p:txBody>
      </p:sp>
      <p:pic>
        <p:nvPicPr>
          <p:cNvPr id="121" name="" descr=""/>
          <p:cNvPicPr/>
          <p:nvPr/>
        </p:nvPicPr>
        <p:blipFill>
          <a:blip r:embed="rId1"/>
          <a:stretch/>
        </p:blipFill>
        <p:spPr>
          <a:xfrm>
            <a:off x="380880" y="1752480"/>
            <a:ext cx="2057400" cy="1524240"/>
          </a:xfrm>
          <a:prstGeom prst="rect">
            <a:avLst/>
          </a:prstGeom>
          <a:ln w="0">
            <a:noFill/>
          </a:ln>
        </p:spPr>
      </p:pic>
      <p:pic>
        <p:nvPicPr>
          <p:cNvPr id="122" name="" descr=""/>
          <p:cNvPicPr/>
          <p:nvPr/>
        </p:nvPicPr>
        <p:blipFill>
          <a:blip r:embed="rId2"/>
          <a:stretch/>
        </p:blipFill>
        <p:spPr>
          <a:xfrm>
            <a:off x="3733920" y="3048120"/>
            <a:ext cx="2057400" cy="1523880"/>
          </a:xfrm>
          <a:prstGeom prst="rect">
            <a:avLst/>
          </a:prstGeom>
          <a:ln w="0">
            <a:noFill/>
          </a:ln>
        </p:spPr>
      </p:pic>
      <p:sp>
        <p:nvSpPr>
          <p:cNvPr id="123" name=""/>
          <p:cNvSpPr/>
          <p:nvPr/>
        </p:nvSpPr>
        <p:spPr>
          <a:xfrm>
            <a:off x="6629400" y="3975120"/>
            <a:ext cx="2324160" cy="268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3  Inail - Inps</a:t>
            </a: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pertura posizione</a:t>
            </a: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4" name="" descr=""/>
          <p:cNvPicPr/>
          <p:nvPr/>
        </p:nvPicPr>
        <p:blipFill>
          <a:blip r:embed="rId3"/>
          <a:stretch/>
        </p:blipFill>
        <p:spPr>
          <a:xfrm>
            <a:off x="6781680" y="4495680"/>
            <a:ext cx="2057400" cy="1524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mic Sans MS"/>
              </a:rPr>
              <a:t>PERCORSO ADEMPIMENTI PER AVVIO SOCIETA’ DI PERSONE</a:t>
            </a:r>
            <a:endParaRPr b="0" lang="en-US" sz="2800" spc="-1" strike="noStrike">
              <a:solidFill>
                <a:srgbClr val="000000"/>
              </a:solidFill>
              <a:latin typeface="Times New Roman"/>
            </a:endParaRPr>
          </a:p>
        </p:txBody>
      </p:sp>
      <p:sp>
        <p:nvSpPr>
          <p:cNvPr id="126" name="PlaceHolder 2"/>
          <p:cNvSpPr>
            <a:spLocks noGrp="1"/>
          </p:cNvSpPr>
          <p:nvPr>
            <p:ph/>
          </p:nvPr>
        </p:nvSpPr>
        <p:spPr>
          <a:xfrm>
            <a:off x="2438280" y="2057040"/>
            <a:ext cx="3810240" cy="68580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Notaio per atto costitutivo</a:t>
            </a:r>
            <a:endParaRPr b="0" lang="en-US" sz="2000" spc="-1" strike="noStrike">
              <a:solidFill>
                <a:srgbClr val="000000"/>
              </a:solidFill>
              <a:latin typeface="Times New Roman"/>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PlaceHolder 3"/>
          <p:cNvSpPr>
            <a:spLocks noGrp="1"/>
          </p:cNvSpPr>
          <p:nvPr>
            <p:ph/>
          </p:nvPr>
        </p:nvSpPr>
        <p:spPr>
          <a:xfrm>
            <a:off x="5715000" y="3200040"/>
            <a:ext cx="3124080" cy="762120"/>
          </a:xfrm>
          <a:prstGeom prst="rect">
            <a:avLst/>
          </a:prstGeom>
          <a:noFill/>
          <a:ln w="0">
            <a:noFill/>
          </a:ln>
        </p:spPr>
        <p:txBody>
          <a:bodyPr lIns="90000" rIns="90000" tIns="46800" bIns="46800" anchor="t">
            <a:normAutofit/>
          </a:bodyPr>
          <a:p>
            <a:pPr marL="343080" indent="-343080" algn="ctr">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 Ufficio IVA per apertura partita iva</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8" name="" descr=""/>
          <p:cNvPicPr/>
          <p:nvPr/>
        </p:nvPicPr>
        <p:blipFill>
          <a:blip r:embed="rId1"/>
          <a:stretch/>
        </p:blipFill>
        <p:spPr>
          <a:xfrm>
            <a:off x="3581280" y="3276720"/>
            <a:ext cx="2057400" cy="1523880"/>
          </a:xfrm>
          <a:prstGeom prst="rect">
            <a:avLst/>
          </a:prstGeom>
          <a:ln w="0">
            <a:noFill/>
          </a:ln>
        </p:spPr>
      </p:pic>
      <p:sp>
        <p:nvSpPr>
          <p:cNvPr id="129" name=""/>
          <p:cNvSpPr/>
          <p:nvPr/>
        </p:nvSpPr>
        <p:spPr>
          <a:xfrm>
            <a:off x="5105520" y="5257800"/>
            <a:ext cx="3581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 Camera di Commercio per iscrizione al R. I.</a:t>
            </a:r>
            <a:endParaRPr b="0" lang="en-US" sz="2000" spc="-1" strike="noStrike">
              <a:solidFill>
                <a:srgbClr val="000000"/>
              </a:solidFill>
              <a:latin typeface="Times New Roman"/>
            </a:endParaRPr>
          </a:p>
        </p:txBody>
      </p:sp>
      <p:sp>
        <p:nvSpPr>
          <p:cNvPr id="130" name=""/>
          <p:cNvSpPr/>
          <p:nvPr/>
        </p:nvSpPr>
        <p:spPr>
          <a:xfrm>
            <a:off x="762120" y="5334120"/>
            <a:ext cx="31240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4 – Inail Inp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pertura posizione</a:t>
            </a:r>
            <a:endParaRPr b="0" lang="en-US" sz="2000" spc="-1" strike="noStrike">
              <a:solidFill>
                <a:srgbClr val="000000"/>
              </a:solidFill>
              <a:latin typeface="Times New Roman"/>
            </a:endParaRPr>
          </a:p>
        </p:txBody>
      </p:sp>
      <p:sp>
        <p:nvSpPr>
          <p:cNvPr id="131" name=""/>
          <p:cNvSpPr/>
          <p:nvPr/>
        </p:nvSpPr>
        <p:spPr>
          <a:xfrm>
            <a:off x="0" y="3276720"/>
            <a:ext cx="320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 CCIAA o notaio vidimazione libri sociali</a:t>
            </a:r>
            <a:endParaRPr b="0" lang="en-US" sz="2000" spc="-1" strike="noStrike">
              <a:solidFill>
                <a:srgbClr val="000000"/>
              </a:solidFill>
              <a:latin typeface="Times New Roman"/>
            </a:endParaRPr>
          </a:p>
        </p:txBody>
      </p:sp>
      <p:sp>
        <p:nvSpPr>
          <p:cNvPr id="132" name=""/>
          <p:cNvSpPr/>
          <p:nvPr/>
        </p:nvSpPr>
        <p:spPr>
          <a:xfrm>
            <a:off x="6248520" y="2590920"/>
            <a:ext cx="609480" cy="304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7162920" y="4038480"/>
            <a:ext cx="761760" cy="838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172200" y="2286000"/>
            <a:ext cx="99072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flipV="1">
            <a:off x="3885840" y="5866920"/>
            <a:ext cx="1600200" cy="228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248520" y="2286000"/>
            <a:ext cx="76176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019920" y="2133720"/>
            <a:ext cx="1371600" cy="761760"/>
          </a:xfrm>
          <a:prstGeom prst="downArrow">
            <a:avLst>
              <a:gd name="adj1" fmla="val 50000"/>
              <a:gd name="adj2" fmla="val 2500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867280" y="2286000"/>
            <a:ext cx="1143000" cy="5335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7238520" y="4191120"/>
            <a:ext cx="304920" cy="9144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flipV="1">
            <a:off x="4572000" y="6172200"/>
            <a:ext cx="1447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 name=""/>
          <p:cNvSpPr/>
          <p:nvPr/>
        </p:nvSpPr>
        <p:spPr>
          <a:xfrm>
            <a:off x="5486400" y="6324480"/>
            <a:ext cx="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flipV="1">
            <a:off x="3962520" y="6019560"/>
            <a:ext cx="1218960" cy="152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flipV="1">
            <a:off x="1828800" y="44956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mic Sans MS"/>
              </a:rPr>
              <a:t>PERCORSO ADEMPIMENTI PER AVVIO SOCIETA’ DI CAPITALI</a:t>
            </a:r>
            <a:endParaRPr b="0" lang="en-US" sz="2800" spc="-1" strike="noStrike">
              <a:solidFill>
                <a:srgbClr val="000000"/>
              </a:solidFill>
              <a:latin typeface="Times New Roman"/>
            </a:endParaRPr>
          </a:p>
        </p:txBody>
      </p:sp>
      <p:sp>
        <p:nvSpPr>
          <p:cNvPr id="145" name="PlaceHolder 2"/>
          <p:cNvSpPr>
            <a:spLocks noGrp="1"/>
          </p:cNvSpPr>
          <p:nvPr>
            <p:ph/>
          </p:nvPr>
        </p:nvSpPr>
        <p:spPr>
          <a:xfrm>
            <a:off x="5867280" y="2514600"/>
            <a:ext cx="3276720" cy="914400"/>
          </a:xfrm>
          <a:prstGeom prst="rect">
            <a:avLst/>
          </a:prstGeom>
          <a:noFill/>
          <a:ln w="0">
            <a:noFill/>
          </a:ln>
        </p:spPr>
        <p:txBody>
          <a:bodyPr lIns="90000" rIns="90000" tIns="46800" bIns="46800" anchor="t">
            <a:normAutofit/>
          </a:bodyPr>
          <a:p>
            <a:pPr marL="343080" indent="-343080" algn="ctr">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NOTAIO per atto costitutivo e omologa</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
          <p:cNvSpPr/>
          <p:nvPr/>
        </p:nvSpPr>
        <p:spPr>
          <a:xfrm>
            <a:off x="6248520" y="4114800"/>
            <a:ext cx="2590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  UFFICIO IVA per apertura partita iva</a:t>
            </a:r>
            <a:endParaRPr b="0" lang="en-US" sz="2000" spc="-1" strike="noStrike">
              <a:solidFill>
                <a:srgbClr val="000000"/>
              </a:solidFill>
              <a:latin typeface="Times New Roman"/>
            </a:endParaRPr>
          </a:p>
        </p:txBody>
      </p:sp>
      <p:sp>
        <p:nvSpPr>
          <p:cNvPr id="147" name=""/>
          <p:cNvSpPr/>
          <p:nvPr/>
        </p:nvSpPr>
        <p:spPr>
          <a:xfrm>
            <a:off x="1676520" y="5334120"/>
            <a:ext cx="25146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4343400" y="5562720"/>
            <a:ext cx="28954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CAMERA DI COMMERCIO per iscrizione al R. I.</a:t>
            </a:r>
            <a:endParaRPr b="0" lang="en-US" sz="2000" spc="-1" strike="noStrike">
              <a:solidFill>
                <a:srgbClr val="000000"/>
              </a:solidFill>
              <a:latin typeface="Times New Roman"/>
            </a:endParaRPr>
          </a:p>
        </p:txBody>
      </p:sp>
      <p:sp>
        <p:nvSpPr>
          <p:cNvPr id="149" name=""/>
          <p:cNvSpPr/>
          <p:nvPr/>
        </p:nvSpPr>
        <p:spPr>
          <a:xfrm>
            <a:off x="685800" y="5029200"/>
            <a:ext cx="27432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INAIL-INP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pertura posizione</a:t>
            </a:r>
            <a:endParaRPr b="0" lang="en-US" sz="2000" spc="-1" strike="noStrike">
              <a:solidFill>
                <a:srgbClr val="000000"/>
              </a:solidFill>
              <a:latin typeface="Times New Roman"/>
            </a:endParaRPr>
          </a:p>
        </p:txBody>
      </p:sp>
      <p:sp>
        <p:nvSpPr>
          <p:cNvPr id="150" name=""/>
          <p:cNvSpPr/>
          <p:nvPr/>
        </p:nvSpPr>
        <p:spPr>
          <a:xfrm>
            <a:off x="0" y="3124080"/>
            <a:ext cx="3581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   CCIAA O NOTAIO vidimazione libri sociali</a:t>
            </a:r>
            <a:endParaRPr b="0" lang="en-US" sz="2000" spc="-1" strike="noStrike">
              <a:solidFill>
                <a:srgbClr val="000000"/>
              </a:solidFill>
              <a:latin typeface="Times New Roman"/>
            </a:endParaRPr>
          </a:p>
        </p:txBody>
      </p:sp>
      <p:sp>
        <p:nvSpPr>
          <p:cNvPr id="151" name=""/>
          <p:cNvSpPr/>
          <p:nvPr/>
        </p:nvSpPr>
        <p:spPr>
          <a:xfrm>
            <a:off x="2514600" y="1752480"/>
            <a:ext cx="37339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BANCA versamento dei 3/10 capitale sociale</a:t>
            </a:r>
            <a:endParaRPr b="0" lang="en-US" sz="2000" spc="-1" strike="noStrike">
              <a:solidFill>
                <a:srgbClr val="000000"/>
              </a:solidFill>
              <a:latin typeface="Times New Roman"/>
            </a:endParaRPr>
          </a:p>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2" name="" descr=""/>
          <p:cNvPicPr/>
          <p:nvPr/>
        </p:nvPicPr>
        <p:blipFill>
          <a:blip r:embed="rId1"/>
          <a:stretch/>
        </p:blipFill>
        <p:spPr>
          <a:xfrm>
            <a:off x="3886200" y="3352680"/>
            <a:ext cx="2057400" cy="1524240"/>
          </a:xfrm>
          <a:prstGeom prst="rect">
            <a:avLst/>
          </a:prstGeom>
          <a:ln w="0">
            <a:noFill/>
          </a:ln>
        </p:spPr>
      </p:pic>
      <p:sp>
        <p:nvSpPr>
          <p:cNvPr id="153" name=""/>
          <p:cNvSpPr/>
          <p:nvPr/>
        </p:nvSpPr>
        <p:spPr>
          <a:xfrm>
            <a:off x="6477120" y="1981080"/>
            <a:ext cx="1143000" cy="38124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695720" y="3352680"/>
            <a:ext cx="228600" cy="53352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7391520" y="5257800"/>
            <a:ext cx="457200" cy="83808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flipV="1">
            <a:off x="3048120" y="5943240"/>
            <a:ext cx="1295280" cy="30492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flipV="1">
            <a:off x="1447560" y="4038120"/>
            <a:ext cx="533160" cy="83844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1981080" y="2514600"/>
            <a:ext cx="990720" cy="4572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Comic Sans MS"/>
              </a:rPr>
              <a:t>LE FONTI DI FINANZIAMENTO</a:t>
            </a:r>
            <a:endParaRPr b="0" lang="en-US" sz="40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dalità di reperimento dei capitali:</a:t>
            </a:r>
            <a:endParaRPr b="0" lang="en-US" sz="2000" spc="-1" strike="noStrike">
              <a:solidFill>
                <a:srgbClr val="000000"/>
              </a:solidFill>
              <a:latin typeface="Times New Roman"/>
            </a:endParaRPr>
          </a:p>
          <a:p>
            <a:pPr lvl="2" marL="1108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Capitale proprio</a:t>
            </a:r>
            <a:endParaRPr b="0" lang="en-US" sz="1600" spc="-1" strike="noStrike">
              <a:solidFill>
                <a:srgbClr val="000000"/>
              </a:solidFill>
              <a:latin typeface="Times New Roman"/>
            </a:endParaRPr>
          </a:p>
          <a:p>
            <a:pPr lvl="2" marL="1108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Capitale di terzi</a:t>
            </a:r>
            <a:endParaRPr b="0" lang="en-US" sz="1600" spc="-1" strike="noStrike">
              <a:solidFill>
                <a:srgbClr val="000000"/>
              </a:solidFill>
              <a:latin typeface="Times New Roman"/>
            </a:endParaRPr>
          </a:p>
          <a:p>
            <a:pPr lvl="2" marL="1108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Finanziamenti pubblici</a:t>
            </a:r>
            <a:endParaRPr b="0" lang="en-US" sz="1600" spc="-1" strike="noStrike">
              <a:solidFill>
                <a:srgbClr val="000000"/>
              </a:solidFill>
              <a:latin typeface="Times New Roman"/>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finanziamenti si possono distinguere in diverse tipologie (conto capitale, conto interessi, conto garanzia) </a:t>
            </a:r>
            <a:endParaRPr b="0" lang="en-US" sz="2000" spc="-1" strike="noStrike">
              <a:solidFill>
                <a:srgbClr val="000000"/>
              </a:solidFill>
              <a:latin typeface="Times New Roman"/>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finanziamenti pubblici si possono distinguere in base alla fonte (comunitaria, nazionale, regionale)</a:t>
            </a: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diamo a vedere…. </a:t>
            </a:r>
            <a:r>
              <a:rPr b="0" lang="it-IT" sz="2000" spc="-1" strike="noStrike" u="sng">
                <a:solidFill>
                  <a:srgbClr val="ccccff"/>
                </a:solidFill>
                <a:uFillTx/>
                <a:latin typeface="Comic Sans MS"/>
                <a:hlinkClick r:id="rId1"/>
              </a:rPr>
              <a:t>www.</a:t>
            </a:r>
            <a:r>
              <a:rPr b="0" lang="it-IT" sz="2000" spc="-1" strike="noStrike" u="sng">
                <a:solidFill>
                  <a:srgbClr val="ccccff"/>
                </a:solidFill>
                <a:uFillTx/>
                <a:latin typeface="Comic Sans MS"/>
                <a:hlinkClick r:id="rId2"/>
              </a:rPr>
              <a:t>rer</a:t>
            </a:r>
            <a:r>
              <a:rPr b="0" lang="it-IT" sz="2000" spc="-1" strike="noStrike" u="sng">
                <a:solidFill>
                  <a:srgbClr val="ccccff"/>
                </a:solidFill>
                <a:uFillTx/>
                <a:latin typeface="Comic Sans MS"/>
                <a:hlinkClick r:id="rId3"/>
              </a:rPr>
              <a:t>.</a:t>
            </a:r>
            <a:r>
              <a:rPr b="0" lang="it-IT" sz="2000" spc="-1" strike="noStrike" u="sng">
                <a:solidFill>
                  <a:srgbClr val="ccccff"/>
                </a:solidFill>
                <a:uFillTx/>
                <a:latin typeface="Comic Sans MS"/>
                <a:hlinkClick r:id="rId4"/>
              </a:rPr>
              <a:t>camcom</a:t>
            </a:r>
            <a:r>
              <a:rPr b="0" lang="it-IT" sz="2000" spc="-1" strike="noStrike" u="sng">
                <a:solidFill>
                  <a:srgbClr val="ccccff"/>
                </a:solidFill>
                <a:uFillTx/>
                <a:latin typeface="Comic Sans MS"/>
                <a:hlinkClick r:id="rId5"/>
              </a:rPr>
              <a:t>.</a:t>
            </a:r>
            <a:r>
              <a:rPr b="0" lang="it-IT" sz="2000" spc="-1" strike="noStrike" u="sng">
                <a:solidFill>
                  <a:srgbClr val="ccccff"/>
                </a:solidFill>
                <a:uFillTx/>
                <a:latin typeface="Comic Sans MS"/>
                <a:hlinkClick r:id="rId6"/>
              </a:rPr>
              <a:t>it</a:t>
            </a:r>
            <a:r>
              <a:rPr b="0" lang="it-IT" sz="2000" spc="-1" strike="noStrike" u="sng">
                <a:solidFill>
                  <a:srgbClr val="ccccff"/>
                </a:solidFill>
                <a:uFillTx/>
                <a:latin typeface="Comic Sans MS"/>
                <a:hlinkClick r:id="rId7"/>
              </a:rPr>
              <a:t>/</a:t>
            </a:r>
            <a:r>
              <a:rPr b="0" lang="it-IT" sz="2000" spc="-1" strike="noStrike" u="sng">
                <a:solidFill>
                  <a:srgbClr val="ccccff"/>
                </a:solidFill>
                <a:uFillTx/>
                <a:latin typeface="Comic Sans MS"/>
                <a:hlinkClick r:id="rId8"/>
              </a:rPr>
              <a:t>guidafin</a:t>
            </a:r>
            <a:endParaRPr b="0" lang="en-US" sz="2000" spc="-1" strike="noStrike">
              <a:solidFill>
                <a:srgbClr val="000000"/>
              </a:solidFill>
              <a:latin typeface="Times New Roman"/>
            </a:endParaRPr>
          </a:p>
          <a:p>
            <a:pPr marL="3326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Comic Sans MS"/>
              </a:rPr>
              <a:t>RIASSUMENDO..</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osci te stess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uardati intorn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izza i rischi</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egli di produrre ciò che puoi vender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soli o in società?</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sforma le idee in numeri…. Il business plan</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comincia…..ma attenzione al labirinto delle procedur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 fonti di finanziament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i arrivato? Ricorda che si può sempre migliorare…. Con la formazione continua! </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lavoro dipendente</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a tempo indetermina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d’inserimen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pprendista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a tempo determina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a tempo parzial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lavoro intermitt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lavoro riparti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omministrazione di lavor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di formazione e lavo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lavoratore atipico</a:t>
            </a:r>
            <a:endParaRPr b="0" lang="en-US" sz="4400" spc="-1" strike="noStrike">
              <a:solidFill>
                <a:srgbClr val="000000"/>
              </a:solidFill>
              <a:latin typeface="Times New Roman"/>
            </a:endParaRPr>
          </a:p>
        </p:txBody>
      </p:sp>
      <p:sp>
        <p:nvSpPr>
          <p:cNvPr id="60"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ollaboratore a progetto</a:t>
            </a:r>
            <a:r>
              <a:rPr b="0" lang="it-IT" sz="2400" spc="-1" strike="noStrike">
                <a:solidFill>
                  <a:srgbClr val="000000"/>
                </a:solidFill>
                <a:latin typeface="Times New Roman"/>
              </a:rPr>
              <a:t>: sostituisce il vecchio co.co.co; forma intermedia fra lavoratore subordinato e lavoratore autonomo.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rapporto di lavoro deve essere riconducibile a un progetto o a una fase del progetto determinato da committente e gestito autonomamente dal collaboratore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l lavoro occasionale</a:t>
            </a:r>
            <a:r>
              <a:rPr b="0" lang="it-IT" sz="2400" spc="-1" strike="noStrike">
                <a:solidFill>
                  <a:srgbClr val="000000"/>
                </a:solidFill>
                <a:latin typeface="Times New Roman"/>
              </a:rPr>
              <a:t>: in caso di rapporti di lavoro autonomo non superiore a 30 gg. nell’anno solare con lo stesso committente, salvo che il compenso complessivo per la prestazione non superi 5.000 euro.</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l lavoro accessorio</a:t>
            </a:r>
            <a:r>
              <a:rPr b="0" lang="it-IT" sz="2400" spc="-1" strike="noStrike">
                <a:solidFill>
                  <a:srgbClr val="000000"/>
                </a:solidFill>
                <a:latin typeface="Times New Roman"/>
              </a:rPr>
              <a:t>: attività lavorative di natura meramente occasionale rese da soggetti a rischio di esclusione sociale, o comunque non ancora entrati ne mondo del lavoro, o in procinto di uscirne.</a:t>
            </a:r>
            <a:endParaRPr b="0" lang="en-US" sz="2400" spc="-1" strike="noStrike">
              <a:solidFill>
                <a:srgbClr val="000000"/>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 saperne di più…</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cop_biagi%20(1)" descr=""/>
          <p:cNvPicPr/>
          <p:nvPr/>
        </p:nvPicPr>
        <p:blipFill>
          <a:blip r:embed="rId1"/>
          <a:stretch/>
        </p:blipFill>
        <p:spPr>
          <a:xfrm>
            <a:off x="838080" y="1143000"/>
            <a:ext cx="6934320" cy="571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voro autonomo</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 L’espressione “LAVORO AUTONOMO” si intende (art.2222 C.C. - "contratto d'opera") ogni attività lavorativa che prevede:</a:t>
            </a:r>
            <a:br>
              <a:rPr sz="1800"/>
            </a:br>
            <a:r>
              <a:rPr b="0" lang="en-US" sz="1800" spc="-1" strike="noStrike">
                <a:solidFill>
                  <a:srgbClr val="000000"/>
                </a:solidFill>
                <a:latin typeface="Comic Sans MS"/>
              </a:rPr>
              <a:t> </a:t>
            </a:r>
            <a:br>
              <a:rPr sz="1800"/>
            </a:br>
            <a:r>
              <a:rPr b="0" lang="en-US" sz="1800" spc="-1" strike="noStrike">
                <a:solidFill>
                  <a:srgbClr val="000000"/>
                </a:solidFill>
                <a:latin typeface="Comic Sans MS"/>
              </a:rPr>
              <a:t>•</a:t>
            </a:r>
            <a:r>
              <a:rPr b="0" i="1" lang="en-US" sz="1800" spc="-1" strike="noStrike">
                <a:solidFill>
                  <a:srgbClr val="000000"/>
                </a:solidFill>
                <a:latin typeface="Comic Sans MS"/>
              </a:rPr>
              <a:t> l'esecuzione, contro corrispettivo, di un'opera o di un servizio; </a:t>
            </a:r>
            <a:br>
              <a:rPr sz="1800"/>
            </a:br>
            <a:r>
              <a:rPr b="0" lang="en-US" sz="1800" spc="-1" strike="noStrike">
                <a:solidFill>
                  <a:srgbClr val="000000"/>
                </a:solidFill>
                <a:latin typeface="Comic Sans MS"/>
              </a:rPr>
              <a:t>•</a:t>
            </a:r>
            <a:r>
              <a:rPr b="0" i="1" lang="en-US" sz="1800" spc="-1" strike="noStrike">
                <a:solidFill>
                  <a:srgbClr val="000000"/>
                </a:solidFill>
                <a:latin typeface="Comic Sans MS"/>
              </a:rPr>
              <a:t> con lavoro prevalentemente proprio;</a:t>
            </a:r>
            <a:br>
              <a:rPr sz="1800"/>
            </a:br>
            <a:r>
              <a:rPr b="0" lang="en-US" sz="1800" spc="-1" strike="noStrike">
                <a:solidFill>
                  <a:srgbClr val="000000"/>
                </a:solidFill>
                <a:latin typeface="Comic Sans MS"/>
              </a:rPr>
              <a:t>• </a:t>
            </a:r>
            <a:r>
              <a:rPr b="0" i="1" lang="en-US" sz="1800" spc="-1" strike="noStrike">
                <a:solidFill>
                  <a:srgbClr val="000000"/>
                </a:solidFill>
                <a:latin typeface="Comic Sans MS"/>
              </a:rPr>
              <a:t>senza vincolo di subordinazione nei confronti del committente.</a:t>
            </a:r>
            <a:br>
              <a:rPr sz="1800"/>
            </a:br>
            <a:r>
              <a:rPr b="0" lang="en-US" sz="1800" spc="-1" strike="noStrike">
                <a:solidFill>
                  <a:srgbClr val="000000"/>
                </a:solidFill>
                <a:latin typeface="Comic Sans MS"/>
              </a:rPr>
              <a:t> </a:t>
            </a:r>
            <a:br>
              <a:rPr sz="1800"/>
            </a:br>
            <a:r>
              <a:rPr b="1" lang="en-US" sz="1800" spc="-1" strike="noStrike">
                <a:solidFill>
                  <a:srgbClr val="000000"/>
                </a:solidFill>
                <a:latin typeface="Comic Sans MS"/>
              </a:rPr>
              <a:t>Il lavoro autonomo si differenzia dall'impresa principalmente per l'assenza di una significativa organizzazione, cioè di una azienda</a:t>
            </a:r>
            <a:r>
              <a:rPr b="1" lang="en-US" sz="1800" spc="-1" strike="noStrike" u="sng">
                <a:solidFill>
                  <a:srgbClr val="000000"/>
                </a:solidFill>
                <a:uFillTx/>
                <a:latin typeface="Comic Sans MS"/>
              </a:rPr>
              <a: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e attività autonome possono essere svolte nei modi seguenti:</a:t>
            </a:r>
            <a:br>
              <a:rPr sz="1800"/>
            </a:br>
            <a:r>
              <a:rPr b="0" lang="en-US" sz="1800" spc="-1" strike="noStrike">
                <a:solidFill>
                  <a:srgbClr val="000000"/>
                </a:solidFill>
                <a:latin typeface="Comic Sans MS"/>
              </a:rPr>
              <a:t> </a:t>
            </a:r>
            <a:br>
              <a:rPr sz="1800"/>
            </a:br>
            <a:r>
              <a:rPr b="0" lang="en-US" sz="1800" spc="-1" strike="noStrike">
                <a:solidFill>
                  <a:srgbClr val="000000"/>
                </a:solidFill>
                <a:latin typeface="Comic Sans MS"/>
              </a:rPr>
              <a:t>•</a:t>
            </a:r>
            <a:r>
              <a:rPr b="0" lang="en-US" sz="1800" spc="-1" strike="noStrike">
                <a:solidFill>
                  <a:srgbClr val="000000"/>
                </a:solidFill>
                <a:latin typeface="Comic Sans MS"/>
              </a:rPr>
              <a:t> esercizio di arti o professioni; </a:t>
            </a:r>
            <a:br>
              <a:rPr sz="1800"/>
            </a:br>
            <a:r>
              <a:rPr b="0" lang="en-US" sz="1800" spc="-1" strike="noStrike">
                <a:solidFill>
                  <a:srgbClr val="000000"/>
                </a:solidFill>
                <a:latin typeface="Comic Sans MS"/>
              </a:rPr>
              <a:t>•</a:t>
            </a:r>
            <a:r>
              <a:rPr b="0" lang="en-US" sz="1800" spc="-1" strike="noStrike">
                <a:solidFill>
                  <a:srgbClr val="000000"/>
                </a:solidFill>
                <a:latin typeface="Comic Sans MS"/>
              </a:rPr>
              <a:t> collaborazione a progetto e occasionali;</a:t>
            </a:r>
            <a:br>
              <a:rPr sz="1800"/>
            </a:br>
            <a:r>
              <a:rPr b="0" lang="en-US" sz="1800" spc="-1" strike="noStrike">
                <a:solidFill>
                  <a:srgbClr val="000000"/>
                </a:solidFill>
                <a:latin typeface="Comic Sans MS"/>
              </a:rPr>
              <a:t>•</a:t>
            </a:r>
            <a:r>
              <a:rPr b="0" lang="en-US" sz="1800" spc="-1" strike="noStrike">
                <a:solidFill>
                  <a:srgbClr val="000000"/>
                </a:solidFill>
                <a:latin typeface="Comic Sans MS"/>
              </a:rPr>
              <a:t> lavoro autonomo occasionale.</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a significa fare impresa</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2000" spc="-1" strike="noStrike">
                <a:solidFill>
                  <a:srgbClr val="000000"/>
                </a:solidFill>
                <a:latin typeface="Comic Sans MS"/>
              </a:rPr>
              <a:t>Il Codice Civile non fornisce la definizione di "impresa", ma quella di "imprenditore" (art. 2082 C.C.).</a:t>
            </a:r>
            <a:br>
              <a:rPr sz="2000"/>
            </a:b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 imprenditore chi esercita professionalmente una attività economica organizzata al fine della produzione o dello scambio di beni e di servizi".</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 evidente che l'attività di di cui si parla (economica, organizzata, diretta alla produzione o allo scambio di beni e di servizi, esercitata professionalmente) non è altro che l'impresa.</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B. Giuridicamente l’azienda è l’insieme degli strumenti necessari a realizzare l’attività di impresa (macchinari, locali, materie prime, risorse umane, capitali, ecc..)</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ventare imprenditore</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contesto di riferimento e i soggetti con i quali ci si relazionerà:</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amera di Commerci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istituzioni locali: Provincia, Comune, ec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Organizzazioni sindacal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Associazioni di categori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i Ordini professional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ri</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1T16:51:23Z</dcterms:created>
  <dc:creator>Stefano</dc:creator>
  <dc:description/>
  <dc:language>en-US</dc:language>
  <cp:lastModifiedBy>Stefano</cp:lastModifiedBy>
  <dcterms:modified xsi:type="dcterms:W3CDTF">2006-04-21T14:15:20Z</dcterms:modified>
  <cp:revision>7</cp:revision>
  <dc:subject/>
  <dc:title>Fare impresa: una scelta possible</dc:title>
</cp:coreProperties>
</file>